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11B-1F02-43F8-BC93-6D876E3C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D5D-21DF-4913-9410-85474A2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7B2CA-6133-416B-9784-D4FE17F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8753F-58A4-41C5-9B8A-AC2EB62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2059-92DC-4CBD-A3A6-13EF900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D9F1D-FC0E-4DC5-A972-C86B012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D7654-9A0B-4CB5-BCF9-A22766B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A3573-D6FC-4EE5-B491-2BEC82F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0F65-1385-4369-9205-3C21B651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92B4-2FE0-4285-B981-CC33C60F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9BF18-A097-4C3E-B95D-E02227EA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F1357-780D-4CE6-B867-93D066E9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381-FDFB-4B4B-8F0F-43F0AB11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BB14-F318-4467-AD97-64E5CCC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273C2-8FBD-43BC-B046-5E9C92B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C545-DF8C-4530-B463-6CDA12B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8D9DA-A16B-4728-BC25-C590CFAD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C6CC-0C54-44AA-81CD-2C01502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366E-DF22-460D-90C9-A448B0D9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A2546-20D7-4A71-BD20-42B6605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CDDA8-666F-437D-9E91-7F1994D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4D96C-D9E4-48DA-AB51-521F6B9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FD94C-CC5A-4E7C-AFE9-7A43FA73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1A2-7D7E-4063-B888-A3449046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8820-629A-4625-B4E2-664E97D2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908B-13F5-4D0D-A8E5-C0815CE7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18A4A-B40B-446E-AB58-EA879FFE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00DC6-5058-40DA-ABDC-5F09C82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43EF7-4496-41BB-AFC9-3C5750B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0BD5-7132-4C9C-8D87-F5EF8B8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AE948-704A-446B-8839-13813C8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084C0-AFB7-421A-B1FC-46DB666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23F8B-F886-40E4-A605-74C79CD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15187-8631-477E-9B6E-DCD04A7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67F-A4F3-4A7C-A3A2-9089E2AD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30B5-4503-46BB-8DCB-F7E5E6F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1EFE-5AA7-4F72-8A47-D989D2E0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2F9FC-8E52-4236-B3B8-E47A6E1B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F9915-AF85-4CE1-873E-A24C1497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BEB4D-DA6D-4563-AB1F-F43AA7E3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FEB1-3DD5-4FC5-992B-6B3B41E0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EFFB5-54D0-4D2B-8A7E-39629F9F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35B87-A4DA-4BFB-91E1-03A3419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A92F3-8A23-4D63-8372-60D30CC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2C3F5-D411-4B77-A483-D53CB09F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60FF-599F-4015-8517-0F0AC626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8C35F-EED4-47D4-BB86-856B917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820EB-A9FA-4ADD-A4A7-1392FF0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CB7DD-96FC-41AC-A01E-F248386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D3CFA-0215-4E63-9B15-E4D9C7F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DBB92-11CD-4E6A-852C-3739063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032BB-DF84-4F88-9763-571101E2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885BC-4DFC-466D-8223-6087711C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C8980-5443-40E1-91A2-9BA8761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2A04-91A3-4B4E-A1D7-A3FE41E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0074D-FD9F-40D0-8D45-FE35845A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E773-5348-4323-8A86-DE8383D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963F8-B27F-4B6A-A034-1FC1918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7B08D-69B4-4E04-A52B-A8702228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BB047-B48F-4853-939C-078DB10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4CE28-6AB8-43B0-96A4-186EF47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6EDB6-A19C-48B2-83CF-24ACCD1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43ABC-C32B-4C2D-AFB8-6860D7FE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D18AF-0CF7-4AB2-8770-6D552F2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1BD51-89F4-462A-A298-3DFEFD0F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51418-BE34-4189-AC90-86DB88AB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6D41B-3CB4-454B-962D-E3EA496A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EE92-65B1-4AE8-BF7E-B6177A98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A3B9B-F682-427D-B8EF-9AEB7A8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3699D-80A6-455D-A913-6A371C9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473D9-900C-43A4-892E-5DFD1F1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7940B-BE94-423E-BA9F-AFB341B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172CA-B368-454B-9E55-0610324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0167D-6F5F-41D1-8579-DC0033A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3FF5B-5AAF-492F-8E00-0F54CCC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F82BF-988E-427E-9054-001DFB6E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6F91B-E9E0-4550-95DE-E330B08E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ADBDA-815A-4C3A-91C4-F845A811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1A99-4D7E-455F-A79C-4D8F2E8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21718-1BB1-46EF-B94C-52ACFF8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88C57-7C59-4000-B851-2550842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445E2-4834-47F2-AA42-FA0D221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B509A-DDEC-4854-B5E5-5EBA4E1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F7104-7856-490A-8BE4-3F23FA3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CD1A4-32EE-4124-864F-E2ED5D3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1C5A7-3016-4ECE-B3A6-63C6B68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CF53C-CCBA-41AD-A13D-A4094D8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2A301-3D67-4ABC-9412-799D92A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88056-A3E4-460E-BE93-95BF9425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E7AB-F9BC-4D63-9ABF-AFA3FE6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953FE-51B8-4A76-BB0E-D7D8A52E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ED983-6579-4E97-8495-A45BCE51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3099F-315C-40C3-B569-700A763D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B8E31-089C-46FF-B2C3-FD15E6B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4AC5F-699B-4FB1-9658-88A808E8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2631A-A4BE-46E5-BAA3-E1850FE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45617-B6D1-4EA2-A93F-0BFAB7B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0F7F0-DF21-48BF-AF8B-AC25099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9E490-BA66-4A3C-A91F-CA67209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358C2-699C-4404-A70A-058A7A7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3FDE-9C5D-44FE-8F07-3127BD3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F96EB-8BA0-4FD1-AADD-5AE5D19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D96AC-F8E3-41D6-B7C6-4449BD28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7CF8B-3DD3-4915-A386-2C822B15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199F9-99AD-4433-A42D-48F199FB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01950-46EC-454E-B055-EEF4D84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3379B-B90C-43A7-BCDE-BA5AB28C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6C942-99BB-488B-B984-02E24C4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83CDA-AB6C-469A-9BBF-4E3A6736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8B39D-1232-4733-AABB-94CEA553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D6176-2346-4616-8E88-B41019A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28B-B6C7-405F-B431-47E2B205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969-3B1C-4478-B003-837E4AC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5588A-325E-4981-8AF8-507A1CD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46E92-8F17-468D-83DD-A3D0F81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676E1-3D49-4DF1-8CAA-8DD5FC6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0E00F-9AEE-481B-AE39-1D5FA88A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72FBE-26FE-4AE2-BC6A-334E8B3D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1BA14-1B18-40B0-BAF4-BE4465F2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FE799-BC58-4102-95A0-7C876E3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806C6-68E0-4CC0-8518-EA7A49D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92668-FDBA-4AAE-9064-8D9F9D0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37903-E338-4B97-A328-31B7463A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C81-E06D-456E-9450-0A83F41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31CF8-19C3-4BB4-AE9E-3C6BBB30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C786A-9578-4FE1-A193-A6EA026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66911-44DE-47C3-BAA2-66FBFA5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097EB-2F31-4310-A222-46FA795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E64AB-12DD-478D-A459-97CFECB6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CC7D9-51CC-48A4-8F4D-BD859D76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E80B0-5E2C-4F2A-A6E0-BB691F33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C3811-2174-4602-A9E6-348B84C8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84CAB-4807-4EC5-A3E7-6422FA1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312F0-7BD3-4C54-A86A-FCE3772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469B-FFD8-4FB7-A8CD-0CBA8DF0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53D62-6500-4A39-AE9B-839444AC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6E3ED-35E3-4B06-BEE4-4F9349E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805E4-3F38-46B7-A524-1858E739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B5A13-A367-4A37-807B-743D475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E2C55-E382-4B22-9AA8-D7A2809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E2384-821C-468B-B1FE-FB1EF72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39503-4EA6-45D0-8BF5-66116AA4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CAD77-B173-4191-B35A-3B42D64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525EC-F376-4FBC-984E-0907B520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EC49B-FD70-4A74-86FE-80BAFC2B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6D5-C606-4530-8BC7-4F2676D6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8F626-302C-451C-B68D-17D9C6E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BA9C2-BE63-40B6-B126-3EAF49E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07180-E453-4AB6-B6DE-6B4A84AC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5C94D-56E4-4687-A468-4017A11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AFDE9-66A3-4F71-A516-FB45DFA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70EEB-7A0C-40E7-B7B0-361BC00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8A139-78CC-4E1C-9EA3-19C49B4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58F7A-67B6-47AA-B315-59286BD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773955-3F96-4FBB-9622-73CF3F8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8E6D4-FA57-482A-8A65-C4644CE7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50C8-3F29-44D9-A83D-DFE5FEB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22909-F44F-4281-83CC-741829A9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AFBB5-5B44-4AAE-BCBE-63E5FBE1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F41CE-6013-4C1D-8976-7D89763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C3B2F-913C-44DA-AEF6-DDECD62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5FC38-6B96-47FF-8F76-0C4B807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4CAB8-95A1-4FC4-98C4-6931FABF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2AA2C-57F2-46A6-85AB-EA130B7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D3B81-6A4E-48F5-93A7-0914DEA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526917-6B5A-4CB4-A46D-4E99E84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E475A-9E28-4D80-B611-05CCEB1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2691-E494-4F3B-8C69-BCEEA942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C3517-93E3-4375-A7ED-EA2F5E8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2C372-DB09-4076-B82E-2CD9B15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F8B5E-DE78-435A-8E92-D91FEF3F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BF7E9-5FEC-4DF0-B7F7-59E7ACFA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72A52B-23B8-4314-8712-8820EA7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642ED1-712A-4014-AEAF-4E057F54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D741D-98B6-4DDB-9E51-872B040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54772-66EE-465D-952E-FDBB4E5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3409A7-C764-439C-AFC7-DBC4A07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B9ED0-A672-44EA-BC48-7FC9818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5492A-03FB-40B4-935D-C6CCCDF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25DB0-1AF4-4C3F-A7CA-114DA3A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46ACE-B0DC-4D36-9350-7630A58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381F5-8EBE-481A-8B0F-1A5371F3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B86782-BE8D-498B-BCF5-6F60A9B9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1F1F0-6A36-441C-AEAD-D8D079F2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EBF330-7A75-47F4-81A4-E9768186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57B6B-3C7E-489B-9B90-7C2A79F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00090-BEE1-4F3B-A825-671A3C3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5ED3C-8BB3-4BE7-9EEF-D12C248D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25EE2-ABA2-474C-A8F1-0A61DDD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BDCF-69A3-4E95-9B67-AB58A27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87A78-A62B-4274-9DB3-A8B4805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89FDB-08F7-4F3A-9538-C9AB0541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EC56FF-1762-4905-8FFF-46644D8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232793-5933-432D-95FC-702A0584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065E0-B1D0-42A3-9A29-02528C6B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75FF53-2432-4FAC-853B-C5C10159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B4DC5-A6EB-48B8-96D6-422397E4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F95F01-97CD-4F11-9C09-44C0B790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1C0C8B-6024-4DB5-B199-6131EAE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BC239D-36B8-49BB-B956-53B2841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8896-5FF7-455A-9FBE-BDBB3AA0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4B4A3-68B2-4CCA-9AAB-2B7CEF0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AA7322-5078-447F-947A-60C2B507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3F8CBD-12DA-4540-93EE-3BB3CFD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8AD6C3-DC66-4151-A0B2-EBA6DB3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A14246-011E-428B-9670-576626B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3FF25-4977-4AC2-86E0-63DFB8B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A53D2-568E-4C17-8DE7-03179889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4C806E-30FE-4988-B3BB-E392C768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701974-1C39-4746-B13D-09695F45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C4517-118F-4BCB-AF45-503BAE0B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CB89-7869-4693-BFD8-D94C07B8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5E6AAE-7664-427A-ADFC-D13560CB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997BE9-C9DC-455A-A6A3-503F0CC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75DBB2-56E0-4468-B20D-AE6F7BB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1DD3BA-CF6F-4595-B0C8-8FC682D2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1A419A-A283-4C9F-AF43-1CDBC6F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6F519-1512-40A2-94A0-4AD2A74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DFB1A6-9903-4ED7-8845-672E480B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6D03D-3E8E-4449-A40D-227C37E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F2E1D3-A679-478C-BD99-BA68554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B53EF-4DD1-46E1-9D10-5C83067A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5A9-3056-40E3-8C49-65F826DF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7036-E25E-4482-872C-78B1DE51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0B0150-7E3C-4E3A-9B69-47B8417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B56BF8-AE71-4471-BE48-02911D6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86888C-5E0C-4F3A-AF62-D78CBA7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2456D-34B5-45AB-9ACC-61A52A08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C3E37A-08F5-493B-8207-E17DC67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400116-BE5E-4E42-9FBC-177D509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9CAE58-F649-4860-9500-3FFD253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F4D91A-A0F1-4DDD-A9CD-717F6C47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86B36D-305D-4503-9576-7EEE568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ACB0C2-FDEA-4392-ABBD-84A352C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078A-FE4F-4855-88FB-61FFDE9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4775BB-1226-4D5C-BCC7-AE7DE6D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0618C1-AB2B-4E7F-8E34-2AF567D4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45F24A-7E38-4B89-A452-F6DFFFFF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A21B77-0F06-4FA4-AD3C-4DC22BC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251A8B-520C-4CF3-9DF3-04C35ED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B1C7B-1F8D-4526-85FB-D605A243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38E9A6-0EDB-495B-B554-DFC0A0BA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5AE22-574B-41B1-B822-C9743F6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6D1B1-C7AF-49ED-88E3-F733CC4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BE33A-15C0-40C6-8E8E-22327AB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2F98-6584-40CE-9334-3718B87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B3247B-AF39-4E2E-BCD5-1B4FF79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3CEF4E-2E1D-464D-A42A-6A7C13D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5041E-BE80-4C60-855C-82CDA64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D6846-BD29-457D-A01B-142D4057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1AAA77-BB09-48E3-B1DA-5B6BB322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E78FCB-4798-441E-B036-172B5E4B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9C3C2A-361D-4FCE-A40A-6032C79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D6CADE-09FC-4BAF-B115-10BC0D5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FD2745-41A7-422F-963E-9B3794E9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44080E-7DD3-454F-9EA4-7F4F66E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EC3E-5631-448C-8112-E7398520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A50174-A7E8-4610-9134-D49B989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1F9A4E-12AA-4BB8-86AA-9215641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8A2F9-A4EA-43B5-9F41-04AE1D7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9AB32A-06F6-4D9C-83D8-D85A33D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7AE447-4CD4-445C-B491-7F1AF6D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3FFB76-94B0-472A-B54C-DEA34A6E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7018B-C37C-487D-B27D-C652567B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C6705-CCDA-436B-B9BE-CA1A58B8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1217EF-6474-46BD-B4A4-D57CF0B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C16A10-7D1E-44C2-A50D-299090A9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8152-C2E1-4691-9AEF-EA1DD2B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DAAFAC-3C61-4273-A91F-E4EED09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7D5264-A748-454F-8DE6-2227B2D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D48D9-8F6B-4BAD-BBA7-BFB6A02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FB87D6-7A92-4C24-B244-089A782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0042CC-4F0E-4089-882E-2D3685FA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CB512D-A225-4F16-B249-F2FB6C5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67E60C-CE72-4C4C-9426-69256512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6B8DF5-9B04-4F94-BD1C-88A8ECBC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3213F6-DCE3-4298-AFFB-EC88FDA9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BD70D6-7592-41E5-BC29-FB2B28BB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34B6-2DE8-4C21-98AA-7708DAB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919B2D-D78D-4F05-B2DE-01D593EC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3EC476-DEDB-4D94-AC3B-B675306D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47F925-8F73-4C6F-887E-865BF973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C4BEBD-E1D1-4DC1-AD24-FA40950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AB7B12-708E-4B08-96EF-6AC1C034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3E5E26-C3D5-479B-ADB4-1332F79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D3D20B-F8D0-499F-871D-DCA81446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729191-619A-4C03-BD00-F1725ED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3D85AC-090F-4FF7-88C6-DF1784D1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E67572-1EAB-46BE-89DD-A7B1DCF6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83DF-E66C-4CAA-9199-0E1B55F1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3C64C3-1F87-4C64-AFD2-EE05C6E8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50A47-A19B-469B-AED2-2A098996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05BA8A-07B7-459E-BD55-D7A1247C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4D0778-6A1B-41BA-A875-C16ED761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A409A6-2D56-4C85-94B0-7C3A0D56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8B2473-755B-4635-A852-31A0C2E8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C94CF1-3FDF-4D7E-85AE-CEC97BD4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A6F23-3279-49BE-9E0C-360908B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56CD32-591D-48AA-973A-B5AE981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471772-B92B-42BA-8213-B0C1E21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8E5C-D761-4EAA-9962-7B141E71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A5265-36F4-48DD-AC45-CDE77BC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C9C999-FEE0-4FC2-A284-B9FD7B3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BA03EE-79BC-4720-8F39-E3FD4248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00DB-1FD2-4F42-B3A4-DA9007F5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F138-81F1-4186-A129-6E924202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9D7-4067-4C44-B4CD-40F01F19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CB5F-0F04-4C85-80E0-5B947C4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FD09-B3B9-4640-A04E-5458B09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DA0C-EF8F-43B8-A5A7-0F3FE4F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FD36-BFEC-46E1-881F-9870491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9355-C310-44E3-87D4-CCD1DFF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7501-0414-4BF4-BE19-315CC9E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8CE5-889E-483A-8E3E-6DA21DB5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D45E-7EA4-494E-A76B-3DE6ACE8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B9E2-AACA-4DA0-88AA-C04D0F00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9F5B-9EC8-4606-87B2-0E72918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30C-A733-441F-8089-DC93067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7831-475A-4C5E-9AA3-FF4B3E1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72F6-0173-4BA2-A1EE-F00582D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208F-A7E0-4029-85C5-B1CEDF37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F558-D601-4CB0-876C-4B3DB46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2324-FBB1-4F91-BA39-166EE13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F34A-34C0-432F-A575-523F6B9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83B87-27B6-4DFF-B41C-DFEF93C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77B3-FEFF-478F-A9B8-3C2C3FC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1505-C629-4408-A5F0-EA76DBE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017E-99B1-41D0-ACA3-E812A173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A57-ED6A-4050-945F-AAF0D33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FA9D-02EE-46C0-A834-2A82F65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2D6F6-2C31-4E87-942F-331AE410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51DF-F2C4-4B45-B222-4872611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BBF4-EAAA-45D4-90B7-26A1A01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6CB4-274D-48FF-95B2-C54053A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3FC8-48CE-471F-8D3A-028CA44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AA6D-8B38-4000-B267-8C02B05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7138-A241-4AF2-B8E1-6DBBB7E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C09C-B047-4B3A-852C-5F0EEE0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B64E-DC0F-4DF3-A55D-EAD6583B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57C-1929-4158-A010-3BEDCF3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0201-0B01-4C6B-AA24-38984E27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690A5-2C05-4B28-8799-0CD90F6D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A638-D2CE-4055-8774-793D1B4C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4953-928A-4AE7-8C8A-7CD0FE3E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0375-9F3B-49D5-A9E0-3D3C9600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F22C-A445-4839-A9B0-16B74AA7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E91D-D508-4DF9-BBEC-B39DFD5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41F1-A1E5-4C02-B5F3-F9FEF91E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506A-7BFC-475E-A274-0193C0B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7189-DB7A-4248-AA4C-92A0A9F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4AA-D7DB-43B5-8693-363D581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B4E4-A3C3-4EC2-B5C3-70DBDDC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8F818-74D1-48F9-B20F-39C8E8A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BFE5-D41B-42FF-BBDA-C7AA511B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F614-DD90-4220-BFD7-4BDB00CA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1A48-C7E7-4696-BD7D-DEC47CDA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84A39-BB0E-4C9B-9566-66DD1A49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3136-DACD-417B-82C2-989E414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57E6-4AD8-448D-B308-C33681A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F0DE-8CE3-4A21-814A-FDD32AC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ED03-B2D5-4BF6-9EA0-070B1886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53E-F2F9-487C-AF83-BC33E62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277D3-85EA-49CF-B3AA-90B3373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04430-05DA-402C-8245-1A07B45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9857B-5CAC-40FB-8116-E7082B7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786D8-764B-43AA-974A-B31F6AB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F94F9-6D37-4E0D-8BB2-323137E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576CA-211A-4A58-B530-3F02F065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D6B0-BB26-440D-B39A-633DB7ED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C2E12-ACEB-4933-AA5C-A2DF1D78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D26A1-1BBB-463D-B396-7E00CD67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351F-C1D5-4142-AB0F-8513507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27B7-8294-4108-8E10-8A358551E9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11E9-122F-4902-882F-4010765BDC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9F8D-1C24-4ADA-BD62-398FA45AE1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3D4-3874-4480-82C7-EC91610D4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82F-C504-4B46-9104-63B5FACB5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A02-3241-4940-BFEA-232C4F942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BAF-D8DA-4D67-819A-D7F97ED66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3C8B-EF9A-470A-B92A-91D390D9D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0D1-5C19-4CBB-B227-EBBA94BD6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298-E914-438F-AB41-B18216B0E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C84-9C80-477E-ADA6-1094FA7C6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6C04-050F-4AE1-AF3D-9C4559BD5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E76-B610-4EAD-8889-70DA8D405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D38B-BA23-4794-855F-682D5675D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36D-0DEA-4F0D-B448-E473EA1CA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A1FF-34EE-40FA-97F0-251DA277F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A49-D2DF-4959-A651-23A7DC0C9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EA4-A2D2-47F1-9DAC-392788DB9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BE9-26FB-4804-A57D-7E3773530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7453-5F76-47CA-B34B-034A61545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B6B-A86D-4C28-8D9B-9E996E7E6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D98-EED3-456E-A857-270FC436E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45E-FA77-4702-A3EC-F66679452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EA39-FBCA-44E8-8F53-DD7550C38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35B-7222-4AA7-8B3B-9BC390896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57A3-BAD1-45A0-BF56-EA513C7815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FE1F-8B99-4FB5-8803-53CE7E7DA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E5F9-387F-4FF2-83A8-645EEECC5D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720-2809-4EDA-8D89-95D3A6A66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B68-507E-40E2-8F04-AAAD0E7777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83C-8B74-4EBD-9D77-4B3EF8ADD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45BD-F772-42E0-8469-61C3E833B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082-5458-4842-B2C4-FED63011B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D8BC-460A-4435-90B3-00D74D217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251B-B416-4B98-BA95-73E5D2D03F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0D47-AE20-4315-BF4F-51A9ABB04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681-216A-41C7-84F9-22C7F892A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8DE-DD64-46A6-904E-7643B1166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9A77-E572-40AE-AF09-34ECF5FAD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D03-B7CB-4154-B5E8-16D21F33E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5CF9-2818-4620-BE7A-35D6AF3F4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BA25-CEC2-4154-A0D0-648B6C8E1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2C6-E21A-48F7-AA63-90180F2F0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89F0-A0A0-4E84-9FEB-158FDE946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BBF-5D3B-447D-B2EC-574A59E56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5EA-A3AA-4B64-BD3F-2F8510380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BF64-C64C-453D-BA6F-517F649BE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A0D-4ED4-4292-ADCB-DC7EBD96D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063-DD6E-4186-BC0B-75E5329FB0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ACF-A2BF-448B-91D1-E1948388DF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473040" y="1096920"/>
            <a:ext cx="8248680" cy="6764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90520" y="3278160"/>
            <a:ext cx="3610080" cy="172404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669960" y="4610160"/>
            <a:ext cx="3227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826920" y="896760"/>
            <a:ext cx="4162680" cy="3743640"/>
          </a:xfrm>
          <a:prstGeom prst="rect">
            <a:avLst/>
          </a:prstGeom>
          <a:ln w="0">
            <a:noFill/>
          </a:ln>
        </p:spPr>
      </p:pic>
      <p:sp>
        <p:nvSpPr>
          <p:cNvPr id="1335" name="矩形 140290"/>
          <p:cNvSpPr/>
          <p:nvPr/>
        </p:nvSpPr>
        <p:spPr>
          <a:xfrm>
            <a:off x="860400" y="1638360"/>
            <a:ext cx="3354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1"/>
          <p:cNvSpPr/>
          <p:nvPr/>
        </p:nvSpPr>
        <p:spPr>
          <a:xfrm>
            <a:off x="809640" y="4216320"/>
            <a:ext cx="4332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39265" descr=""/>
          <p:cNvPicPr/>
          <p:nvPr/>
        </p:nvPicPr>
        <p:blipFill>
          <a:blip r:embed="rId1"/>
          <a:stretch/>
        </p:blipFill>
        <p:spPr>
          <a:xfrm>
            <a:off x="814320" y="876240"/>
            <a:ext cx="5610240" cy="434340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39266"/>
          <p:cNvSpPr/>
          <p:nvPr/>
        </p:nvSpPr>
        <p:spPr>
          <a:xfrm>
            <a:off x="860400" y="1866960"/>
            <a:ext cx="53103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39267"/>
          <p:cNvSpPr/>
          <p:nvPr/>
        </p:nvSpPr>
        <p:spPr>
          <a:xfrm>
            <a:off x="835200" y="4826160"/>
            <a:ext cx="4395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图片 138241" descr=""/>
          <p:cNvPicPr/>
          <p:nvPr/>
        </p:nvPicPr>
        <p:blipFill>
          <a:blip r:embed="rId1"/>
          <a:stretch/>
        </p:blipFill>
        <p:spPr>
          <a:xfrm>
            <a:off x="743040" y="888840"/>
            <a:ext cx="4838760" cy="3657600"/>
          </a:xfrm>
          <a:prstGeom prst="rect">
            <a:avLst/>
          </a:prstGeom>
          <a:ln w="0">
            <a:noFill/>
          </a:ln>
        </p:spPr>
      </p:pic>
      <p:sp>
        <p:nvSpPr>
          <p:cNvPr id="1341" name="矩形 138242"/>
          <p:cNvSpPr/>
          <p:nvPr/>
        </p:nvSpPr>
        <p:spPr>
          <a:xfrm>
            <a:off x="771480" y="1574640"/>
            <a:ext cx="449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38243"/>
          <p:cNvSpPr/>
          <p:nvPr/>
        </p:nvSpPr>
        <p:spPr>
          <a:xfrm>
            <a:off x="542880" y="4216320"/>
            <a:ext cx="449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7217" descr=""/>
          <p:cNvPicPr/>
          <p:nvPr/>
        </p:nvPicPr>
        <p:blipFill>
          <a:blip r:embed="rId1"/>
          <a:stretch/>
        </p:blipFill>
        <p:spPr>
          <a:xfrm>
            <a:off x="473040" y="923760"/>
            <a:ext cx="4438800" cy="241956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137218" descr=""/>
          <p:cNvPicPr/>
          <p:nvPr/>
        </p:nvPicPr>
        <p:blipFill>
          <a:blip r:embed="rId2"/>
          <a:stretch/>
        </p:blipFill>
        <p:spPr>
          <a:xfrm>
            <a:off x="820800" y="4173480"/>
            <a:ext cx="4581360" cy="168588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7219"/>
          <p:cNvSpPr/>
          <p:nvPr/>
        </p:nvSpPr>
        <p:spPr>
          <a:xfrm>
            <a:off x="847800" y="2247840"/>
            <a:ext cx="3519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7220"/>
          <p:cNvSpPr/>
          <p:nvPr/>
        </p:nvSpPr>
        <p:spPr>
          <a:xfrm>
            <a:off x="1952640" y="2921040"/>
            <a:ext cx="203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7221"/>
          <p:cNvSpPr/>
          <p:nvPr/>
        </p:nvSpPr>
        <p:spPr>
          <a:xfrm>
            <a:off x="784080" y="4800600"/>
            <a:ext cx="4815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7222"/>
          <p:cNvSpPr/>
          <p:nvPr/>
        </p:nvSpPr>
        <p:spPr>
          <a:xfrm>
            <a:off x="797040" y="5448240"/>
            <a:ext cx="481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6193" descr=""/>
          <p:cNvPicPr/>
          <p:nvPr/>
        </p:nvPicPr>
        <p:blipFill>
          <a:blip r:embed="rId1"/>
          <a:stretch/>
        </p:blipFill>
        <p:spPr>
          <a:xfrm>
            <a:off x="692280" y="911160"/>
            <a:ext cx="5448240" cy="501012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6194"/>
          <p:cNvSpPr/>
          <p:nvPr/>
        </p:nvSpPr>
        <p:spPr>
          <a:xfrm>
            <a:off x="746280" y="1600200"/>
            <a:ext cx="438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6195"/>
          <p:cNvSpPr/>
          <p:nvPr/>
        </p:nvSpPr>
        <p:spPr>
          <a:xfrm>
            <a:off x="2003400" y="2260440"/>
            <a:ext cx="195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6196"/>
          <p:cNvSpPr/>
          <p:nvPr/>
        </p:nvSpPr>
        <p:spPr>
          <a:xfrm>
            <a:off x="708120" y="4838760"/>
            <a:ext cx="524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6197"/>
          <p:cNvSpPr/>
          <p:nvPr/>
        </p:nvSpPr>
        <p:spPr>
          <a:xfrm>
            <a:off x="1927080" y="5486400"/>
            <a:ext cx="1957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5169" descr=""/>
          <p:cNvPicPr/>
          <p:nvPr/>
        </p:nvPicPr>
        <p:blipFill>
          <a:blip r:embed="rId1"/>
          <a:stretch/>
        </p:blipFill>
        <p:spPr>
          <a:xfrm>
            <a:off x="917640" y="790560"/>
            <a:ext cx="6343560" cy="504828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5170"/>
          <p:cNvSpPr/>
          <p:nvPr/>
        </p:nvSpPr>
        <p:spPr>
          <a:xfrm>
            <a:off x="971640" y="1484280"/>
            <a:ext cx="4713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5171"/>
          <p:cNvSpPr/>
          <p:nvPr/>
        </p:nvSpPr>
        <p:spPr>
          <a:xfrm>
            <a:off x="2092320" y="2146320"/>
            <a:ext cx="82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5172"/>
          <p:cNvSpPr/>
          <p:nvPr/>
        </p:nvSpPr>
        <p:spPr>
          <a:xfrm>
            <a:off x="860400" y="4762440"/>
            <a:ext cx="644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5173"/>
          <p:cNvSpPr/>
          <p:nvPr/>
        </p:nvSpPr>
        <p:spPr>
          <a:xfrm>
            <a:off x="974880" y="5435640"/>
            <a:ext cx="644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52:24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